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6EA6-A569-49C4-8CCE-A7522287F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E368-8BFC-4550-86F5-9443106F8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601A-8E9F-43AE-B594-9BF6F5054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DD09-1A56-4E3F-AFD4-B722849C1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E2C6-7660-4292-974C-8B20D235F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FE53-9F76-4B6D-BF31-FB9A37B29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E137-E5F7-46D4-972D-BE886441A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1278-908E-4960-B240-685C95CE7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4140-29F8-4D9F-A95A-512DE8C36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C4DF-D66E-4691-B722-E1DD51B98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8504-90A8-4501-B44B-4C9152588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2829-7116-44CA-9CC1-84A4E4FEC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9B5E-806A-419D-B81B-35D4FB64B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E69-0F09-4F50-B863-C68BC5EFA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0BD-470D-46A3-9A5F-9D3173987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958-6B60-409F-9A4A-0497862ED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A67A-FA6A-40FD-A3B7-2650094AD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D727-F261-437B-BDEB-68CE45845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8DAE-7063-4B12-8F2E-B635C048C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5CED-4300-4A0A-A21D-B51D859BA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E6C3-DCFB-4CA2-ACB5-DE061DDA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4632-2BE5-4F69-BECD-C9F73415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D17B-6792-4923-9A02-647A84719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833A-00AB-4CBE-B254-D3627B7E7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FBA1-6F33-41D6-ACC2-826FDB6D3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5FF5-AF00-433C-B12D-FDE172885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44C5-D732-4EB9-8CD2-4A2FB7394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3669-5394-4F86-AE48-CCF1F1CDC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7924-89A9-42D2-BA35-09AB37332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46CF-4ADA-4479-B0D3-A650C1763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7F3D-6EED-4AAB-92E9-0BBEF4939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82AD-C609-4494-B860-5A2423BAB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D735-93AD-4B2C-8FDE-B279235E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FF56-450E-4922-A53F-34707B7C0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A031-58B0-4FDC-B6EC-3A15F89E2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E1D1-8E65-43F1-AF22-58D8EE896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95E-F33B-4AE9-83ED-454723F80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9770-6F14-4EBB-A3E6-B68828194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F7C8-8A9E-47EE-B43B-C4E88EA38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8EC8-2269-44D6-8CCF-5C78FE90E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8240-417D-459F-BEE2-65880B4CA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3727-5535-4E60-AEEC-0493EAA31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6822-0305-4696-813E-EA2482071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A5C2-19CB-4B49-9913-CA3B933A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BE60-F03A-4743-8E6A-7256109C3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B42B-3D77-4F93-B7D0-B3424BD1D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1E96-81D1-4B94-8A52-A13C47570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7344-7BD7-4B02-8B1C-346F7C6FB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AEB3-F010-4FE8-8A2A-671A4FF0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E8DB-77FB-48B8-AE46-7FB7CA339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5C7-8F82-435C-9A83-AE01BCBB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10F-58E3-42F9-96DE-050AC3D5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6CE-4571-48A5-BEB4-BA41BEA9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099-89AB-405A-9BAC-78439018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DDD-43BA-4624-BB0D-950FA736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77F-2F94-4541-95B3-9CB11F3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B2E-1DF8-4FAB-8A46-86E284D4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ADF-DC4B-423B-9728-E7A7A277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3D4-8E13-4BF0-9A1B-3E00E31D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2E1-F753-4A62-9F3B-85F87D8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937-CC09-43E1-93C0-8E6F18A0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F49-224B-4757-A732-B7F5629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AC06-6326-432F-96CC-511F8868C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larendon Cd (W1)"/>
              </a:rPr>
              <a:t>Studying Children’s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Number of Children in the United States:  1950-2020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(Projected)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5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Picture 4" descr="mee32357_0106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Portrait of America’s Kindergartners:  Class of 1998/199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6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nic background:  58% white, 19% Latino, 15% African American, 3% Asian, 2% American Indian or Alaskan Native, 1% Hawaiian Native or Pacific Isla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% live with two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ly 50% have mothers with some college education or a college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Portrait of America’s Kindergartners:  Class of 1998/199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6 cont.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kindergarten, 3 out of 5 children received care on a regular basis other than a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hildren enter kindergarten for the first time, parents report that 92 percent are eager to learn and 75 percent persist at tasks very of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ly half of parents report that a family member reads or sings to their kindergarten-age child on a regular b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Portrait of America’s Kindergartners:  Class of 1998/199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6 cont.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66 percent of first-time kindergarten students can recognize their letters, and 94 per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cognize numbers and count to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12 percent of boys and 11 percent of gir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body mass index that places them at risk for becoming over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portant note:  the above characteristics varied by family type, income level, ethnicity, language spoken at home, and maternal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anging Demographics of U.S. School Populatio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7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4" name="Picture 5" descr="mee32357_0108"/>
          <p:cNvPicPr/>
          <p:nvPr/>
        </p:nvPicPr>
        <p:blipFill>
          <a:blip r:embed="rId1"/>
          <a:stretch/>
        </p:blipFill>
        <p:spPr>
          <a:xfrm>
            <a:off x="990720" y="1981080"/>
            <a:ext cx="6705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85400" y="838080"/>
            <a:ext cx="653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nvolved should schools be in our children’s li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hildren who speak a language other than English at home or who have difficulty speaking English: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3 million in 2003, an increase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 million in 19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pproximately 5 percent of school-age children i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914400" y="6019920"/>
            <a:ext cx="92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Federal Interagency Forum on Child and Family Statistics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ince 1975, with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of All Handicapped Act (PL 94-142)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number of laws have been enacted to ensure equal opportunities for children with disabiliti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Individuals with Disabilities Education Improvement Act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(IDEA)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cludes a zero-reject mandat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What is the purpose and  function of schools, should it focus on economic, personal or social development? As educators we should have a form of personal philosophy of education, briefly explain what you think the role schools play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the development of school readiness influenced by internal or environmental processe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Find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ly half of the teachers were nativ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ing teachers thought it was environ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s about school readiness influenced teachers’ recommendation of an extra year of kinderg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Picture 2"/>
          <p:cNvPicPr/>
          <p:nvPr/>
        </p:nvPicPr>
        <p:blipFill>
          <a:blip r:embed="rId1"/>
          <a:stretch/>
        </p:blipFill>
        <p:spPr>
          <a:xfrm>
            <a:off x="457200" y="609480"/>
            <a:ext cx="495288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4"/>
          <p:cNvSpPr/>
          <p:nvPr/>
        </p:nvSpPr>
        <p:spPr>
          <a:xfrm>
            <a:off x="5714640" y="2057400"/>
            <a:ext cx="259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1.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rtra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’s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ren’s Defense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00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erspectives on Children’s Developmen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004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analy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Development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fers to changes in the child that occur over tim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Theor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fers to a set of general statements used to explain facts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sitions taken on certain basic core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28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versus nur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ty versus plas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ty versus disconti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ve versus active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point versus no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iological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been used to explain changes in height, weigh, language, mental abilities, motor skills, and many other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sychoanalytic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developmental changes in the self and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havioral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that developmental changes in behavior are influenced by the environment, and the major mechanisms of development are principles of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Picture 1"/>
          <p:cNvPicPr/>
          <p:nvPr/>
        </p:nvPicPr>
        <p:blipFill>
          <a:blip r:embed="rId1"/>
          <a:stretch/>
        </p:blipFill>
        <p:spPr>
          <a:xfrm>
            <a:off x="1752480" y="2438280"/>
            <a:ext cx="601992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gnitive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the ways children construct their own understandings of their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ools as a Context for Develop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have spent more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,000 hours in school by the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raduate from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del of Human Information Processing System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0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0" name="Picture 4" descr="mee32357_0112"/>
          <p:cNvPicPr/>
          <p:nvPr/>
        </p:nvPicPr>
        <p:blipFill>
          <a:blip r:embed="rId1"/>
          <a:stretch/>
        </p:blipFill>
        <p:spPr>
          <a:xfrm>
            <a:off x="838080" y="1981080"/>
            <a:ext cx="83059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extual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the influence of the social and cultural context on children’s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-Cultura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logical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ronfenbrenner’s Ecological Model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1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4" name="Picture 5" descr="mee32357_0113"/>
          <p:cNvPicPr/>
          <p:nvPr/>
        </p:nvPicPr>
        <p:blipFill>
          <a:blip r:embed="rId1"/>
          <a:stretch/>
        </p:blipFill>
        <p:spPr>
          <a:xfrm>
            <a:off x="2666880" y="1981080"/>
            <a:ext cx="4365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research desig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the plan or structure of an investiga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hypothesi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a statement derived from theory that has not yet been validat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Picture 3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22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ase stud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an in-depth investigation of one person or a small group of individual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orrelational studi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ell us what factors influence or are associated in a positive or negative way and are, perhaps,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ost widely used design in developmental research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Model of Positive Correlation Between School Achievement and Self-Esteem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2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" name="Picture 4" descr="mee32357_0114"/>
          <p:cNvPicPr/>
          <p:nvPr/>
        </p:nvPicPr>
        <p:blipFill>
          <a:blip r:embed="rId1"/>
          <a:stretch/>
        </p:blipFill>
        <p:spPr>
          <a:xfrm>
            <a:off x="1600200" y="2362320"/>
            <a:ext cx="53989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longitudinal stud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, the development of one group of children is tracked over several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ee32357_0103"/>
          <p:cNvPicPr/>
          <p:nvPr/>
        </p:nvPicPr>
        <p:blipFill>
          <a:blip r:embed="rId1"/>
          <a:stretch/>
        </p:blipFill>
        <p:spPr>
          <a:xfrm>
            <a:off x="2590920" y="1676520"/>
            <a:ext cx="425268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Percentage of Time Adolescents Spend in Different Setting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2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ross-sectional stud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, researchers select children of different ages and measure the factor under stud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an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experimental stud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, participants are randomly selected and randomly assigned to either of two conditions: an experimental or a control group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del of the Bobo Doll Experiment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3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6" name="Picture 4" descr="mee32357_0115"/>
          <p:cNvPicPr/>
          <p:nvPr/>
        </p:nvPicPr>
        <p:blipFill>
          <a:blip r:embed="rId1"/>
          <a:stretch/>
        </p:blipFill>
        <p:spPr>
          <a:xfrm>
            <a:off x="457200" y="2362320"/>
            <a:ext cx="8001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ction research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carried out by teachers, administrators, and other change agents in the school to improve the educational environment for their studen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ction Research Spiral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4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9" name="Picture 4" descr="mee32357_0116"/>
          <p:cNvPicPr/>
          <p:nvPr/>
        </p:nvPicPr>
        <p:blipFill>
          <a:blip r:embed="rId1"/>
          <a:stretch/>
        </p:blipFill>
        <p:spPr>
          <a:xfrm>
            <a:off x="1066680" y="2209680"/>
            <a:ext cx="723924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f-Repor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can report on their own behavior, their parents’ and teachers’ behavior, or their peers’ behavior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Picture 2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erformance assessment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ek to measure children’s ability to perform specific tasks correctl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tion of Liquid Problem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7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4" name="Picture 5" descr="mee32357_0119"/>
          <p:cNvPicPr/>
          <p:nvPr/>
        </p:nvPicPr>
        <p:blipFill>
          <a:blip r:embed="rId1"/>
          <a:stretch/>
        </p:blipFill>
        <p:spPr>
          <a:xfrm>
            <a:off x="380880" y="2057400"/>
            <a:ext cx="78771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refers to the consistency or precision of a measurement when repeated under similar circumstanc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mee32357_0104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622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centage of 3-,4-, and 5-Year-Olds in Preschool Programs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3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Validit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of a measure refers to whether or not it provides an accurate measure of the phenomenon being studi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Picture 3"/>
          <p:cNvPicPr/>
          <p:nvPr/>
        </p:nvPicPr>
        <p:blipFill>
          <a:blip r:embed="rId1"/>
          <a:stretch/>
        </p:blipFill>
        <p:spPr>
          <a:xfrm>
            <a:off x="2133720" y="914400"/>
            <a:ext cx="5029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ussion Question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and write down a vivid memory from your childhood school experience. Why has this memory stuck with you and the way you want to learn from this memory?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children in the United States not perform as well as children from Singapore, Hong Kong, or Japan on international assessments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practices di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ime spent on mathematics 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 to problem solving v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verage Percentages of Concepts in 8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Grade Mathematics Lessons that Were Stated vs. Developed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4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2" name="Picture 4" descr="mee32357_0105"/>
          <p:cNvPicPr/>
          <p:nvPr/>
        </p:nvPicPr>
        <p:blipFill>
          <a:blip r:embed="rId1"/>
          <a:stretch/>
        </p:blipFill>
        <p:spPr>
          <a:xfrm>
            <a:off x="1066680" y="2209680"/>
            <a:ext cx="67057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ead Start programs can help offset some of the effects of poverty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school drop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enage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12:57:20Z</dcterms:created>
  <dc:creator>McGraw-Hill Higher Education</dc:creator>
  <dc:description/>
  <dc:language>en-US</dc:language>
  <cp:lastModifiedBy>anne marie</cp:lastModifiedBy>
  <dcterms:modified xsi:type="dcterms:W3CDTF">2011-10-04T15:59:51Z</dcterms:modified>
  <cp:revision>72</cp:revision>
  <dc:subject/>
  <dc:title>Chapter 1</dc:title>
</cp:coreProperties>
</file>